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21B-465A-4C0E-A562-230905F1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F145-7A21-4E82-BDC3-C39BE50C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67AD-7C05-44D8-92D7-BEEBB7CF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09C-BE6D-4611-AB6D-21B1CEBF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7ECD-3ED4-42B1-AAC8-DCC222A1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F3E3-6B1B-44CE-858C-BB820430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D0CF-5561-4EBC-A131-0E3A557D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92F0-A98D-47C3-9C65-F86F0316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30C4-0CA4-4DE4-8A72-2159E18E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CB37-7485-4AF2-BE6A-F27DEA92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EB9B-E137-4A99-BE35-CF6FBCFA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0C0F-34C1-4267-B0A0-1498CF49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F675-DB2F-4C94-8FD4-E585D02C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4626-7CAE-4070-9077-02593D0F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93FC-5D7B-4D68-9038-41FEB59D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E877-5DDE-42E7-913F-AEA5016B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43EE-01AC-4F2E-B85A-7BED2006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6137-AE8A-43A9-9641-BC29476B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E27-EACB-49B1-AF77-5A03D4CE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880-7B5F-4308-B240-C97F8386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48A-0F21-4A17-8088-972F638E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2215-D01F-4F1B-ACD0-2A61148B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4084-AA46-41A5-9719-58462893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71B5-78DC-49E0-81AD-A07494CA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F31F-CDF4-48DB-927F-3C5D6E3F07C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1AAE-91AF-4CE3-95C0-0A0318AB963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Garamond"/>
              </a:rPr>
              <a:t>O istorie a comunismului din Romania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56360" y="342900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Sistemul penitenciar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948-1965- peste 130 de unitati de detenti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nitenciar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Jilava, Rahova, Sighet (elite politice si religioase), Gherla, Aiud (“Vietasi”), Mislea (femei), Pitesti (reeducare studenti), Codlea, Brasov, Suceava, Timisoara (centre de exterminare) Canalul Dunare- Marea Neagra si Balta Brailei (colonii de munca), Baia Sprie si Cavnic (mine de plumb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5948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Monopolul ideologic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 perioade de evolutie ideologica distinct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. stalinizarea (mijlocul anilor ’50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“dezghetul ideologic” ( anii ’50-’60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perioada national comunismului si a tendintelor de restalinizare ideological (anii ’70-’80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Mijloace folosite pentru asigurarea monopolului ideologic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crierea istoriei din perspective prezentului comuni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litizarea invatamantului dupa 194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ganizatiile de masa – PCR, FDUS, “soimii patriei, “pionierii”, UTC, UASCR, UGSR; tinta finala =controlul constiintelor si formarea “omului nou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litizarea culturii si arte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ss media aservi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olul asupra Bisericii ortodox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Ideologia in “Epoca Ceausescu”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gresul IX 1965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-primele tez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968-distantarea de interventia din Cehoslovacia si de politica Moscovei-simpatie nationala si internationala, degenerarea nationalista si aparitia comunismului nationalist (arta, cultura, economie, politica extern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ultul personalitatii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 incepe dupa 1971 (vizitele in China si Coree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Economia si relatiile international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plicarea modelului sovietic: Desfiintarea proprietatii private si inlocuirea ei cu cea de stat, “a intregului popor”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ificarea, anuala apoi cincina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unie 1948 Nationaliz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mul cotelor obligator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49-1962 Colectivizarea agricultur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ustrializarea finalizata cu colapsul din anii ‘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banizarea si sitematizarea-Bucuresti, s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ovromuri”-1945-1956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1949 Romania devina membra CA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ii ‘70 contractarea de credite valutare externe-achitate integral dupa 198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Viata privata si reusita social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calcata violent si flagrant de catre regimul comunis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tionalizarea caselor, viata la bloc, ratiile alimentare, politica de natalit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nuria creaza alternative: “relatii” la alimentara, librarie, alte magazine, micul trafic, furtul din intreprinder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mboluri si insemne ale reusitei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“hainele din Occident”, bunuri de lux (sapun, tigari, cafea, bauturi), masina, apartament (doar 1!!), carte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Politica extern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timpul regimului GH. Gheorghiu Dej orientate exclusive catre Moscova si “lagarul socialist” (CAER (refuza aplicarea Planului Valev din 1964), Pactul de la Varsovia (fara 1968)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timpul lui NC-orientare larga la inceput: RFG, SUA (Clauza), Israel, Occident; dupa 1980 restrangere spre Africa si Liga Araba, apoi izola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atrieri contra valuta-evrei si 1,5 miliarde pentru etnicii german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Rezistenta si disidenta in timpul regimului communist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2924280"/>
            <a:ext cx="822960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zistenta armata 1944-196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944-1947-Tinerimea Libera, Haiducii lui Avram Iancu-Divizia Sumanelor Negre, etc-distruse de sovietici si comunist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948-1957/1958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covina-grupuri conduse de Gavril Vatamaniuc si Vasile   Motresc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tii. Apuseni-grupuri conduse de mr. Nicolae Dabija si Theodor Susm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tii. Fagaras-grupuri conduse de lt.col. Gheorghe Arsenescu, lt. Toma Arnautoiu, Ion Gavrila Ogor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rupurile au fost ajutate de sustinatori din sate; toti au fost urmariti, omorati sau prinsi si inchisi de catre Militie, Securitate si o retea de informato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scarile studentesti din 1956-Bucuresti, Timisoara, Cluj-fara sprijin popul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Ideologia comunista a fost statuata de</a:t>
            </a: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2493720"/>
            <a:ext cx="821844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Karl Marx si Friedrich Engels in sec. XI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. I Lenin si I.V. Stalin s-au folost de ideologie pentru a impune cu forta si a mentine la putere dictatura proletariatului, de fapt a PCUS. ( Au instaurat teroarea si au creat CEKA pentru a putea guvern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isidenta (anii ’70-’80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977 Miscarea Paul Go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teste ale oamenilor de cultura: Doina Cornea, Mihai Botez, Vlad Georgescu, pr. Ctin. Calciu Dumitreasa, Dorin Tudoran, Radu Filipescu, Gabriel Andreescu, Mircea Dinescu, Gh. Ursu, grupul de la Europa Libe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tivistii de partid nemultumiti de dictatura ceausista-“Scrisoarea celor 6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scarile muncitorest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77 minerii din Valea jiulu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 noiembrie 1987 Brasov-“Steagul Rosu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Anul 1989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985 in URSS Gorbaciov cu politica de “glasnost” si “perestroika”- declanseaza prabusirea comunismului in toata Europa de 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omania a fost ultima tara in care a pornit miscarea anticomunista: Timisoara (16 dec.) apoi Bucuresti (21-22 dec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zultatul final =1104 morti si preluarea puterii de catre “esalonul 2 din conducerea PCR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nstituirea PCR si evolutia sa pina la 23 august 1944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920-un grup de socialisti au discutat la Moscova conditiile de afiliere la Internationala a III-a Comunista-acceptarea, sub presiune sovietica a celor 21 de conditii care transformau partidul roman intr-o sectie a acestei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8 mai 1921 congresul de constituire a PCR; 1924 a fost scos in afara legi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perioada interbelica a fost o organizatie periferica, fara impact social si politic (4-5000 membri; inainte de 23 august sub 1000 membr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Preluarea puterii (1944-1947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3august 1944-rusii au conditionat recunoasterea evenimentelor de participarea PC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2 septembrie 1944, Moscova semnarea Conventiei de armistitiu cu Aliatii (3/pag2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upatia militara sovietica in Romania pina in 195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 martie 1945 guvernul Dr. Petru Groz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9 noiembrie 1946-alegeri parlament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0 decembrie 1947 fortarea Regelui Mihai sa abdice (Visinski si P. Groz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PMR/PCR (1948-1989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91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erea partidului: 1948-1965 Gh. Gheorghiu De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65-1989 N. Ceausesc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iminarea pluralismului politic  (vara 1947 PNL si PNT interzi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52 si 1965 Constitutii care au consfintit sistemul politic cu partid unic (RPR/RS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48-1958 deplina tutela sovie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laratia din aprilie 1964 a statuat independenta PMR fata de Moscova fara abandonarea modelului stalin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pa 1965 intervine o relativa liberalizare econom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71-vizita in China si Coreea; incepe ascensiunea Elenei Ceausescu, si cultul personalitat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organizarea structurilor de organizare si conduc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ctueaza/Creste numarul de memb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upte pentru putere la nivelul conducerii de partid; Stefan Foris, L. Patrascanu, Ana Pauker, V. Luca si Teohari Georgescu (1950-1952), C. Parvulescu, Ion Iliescu, Silviu Brucan (1980-1989) eliminati violent sau administrative dupa ce ocupasera functii import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Institutiile statului-“Partidul stat”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-un fel de parlament, for legislative sub controlul PC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zidiul MAN detinea de fapt intreaga pute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sedintele Republicii (1974)=N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siliul de Ministri=guvernul comun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stitia era subordonata intereselor PC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Institutiile represiv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948-Securitatea (folosea tehnice violente: interventia armata in munti si pe parcursul colectivizarii, organizare de atentate, si pasnice: retea de informatory, interceptarea convorbirilor telefonice si a corespondentei, instalare de microfoan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949 Trupele de Securit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949-Milit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curatura si instantele milit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rectia generala a penitenciarel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Distrugerea societatii civile si represiunea politic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nihilarea opozitiei politice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: au fost interzise manifestatiile publice si desfiintate cluburile politice, a fost introdusa cenzura, propaganda de presa, epurarea adversarilor incomozi, inscenari si regizari (8 noiembrie 1945), arestari ai mebrilor partidelor politice (III-IX 1945 peste 1000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esfiintarea si interzicerea partidelor istorice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(PNT-Tamadau, apoi desfiintarea partidului in iulie 1947, arestarea si incarcerarea liderilor; PNL- dezintegrare treptate apoi  autodizolvare in VIII 1947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esfiintarea altor forme de asociere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–peste 1000 in 1947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Prigoana impotriva cultelo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-infiltrare cu informatori, suprimare-Martorii lui Iehova, desfiintarea Bisericii Greco-Catolice-1 decembrie 1948, controlul asupra Bisericii Ortodox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Universul concentrationar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00.000-2.000.000 victime (detinuti in inchisori, lagare, deportati/dislocati, internarea in colonii si unitati de munca, domiciliu obligatoriu )=”dusmani ai poporului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sigurarea bazei legislative-Codul Penal, abrogarea principiului neretroactivitatii legilor, “articolul pretext” 209 din C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964-majoritatea detinutilor politici au fost amnistiat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6:26:19Z</dcterms:created>
  <dc:creator>user</dc:creator>
  <dc:description/>
  <dc:language>en-US</dc:language>
  <cp:lastModifiedBy>FLORINA</cp:lastModifiedBy>
  <dcterms:modified xsi:type="dcterms:W3CDTF">2008-11-13T11:21:56Z</dcterms:modified>
  <cp:revision>13</cp:revision>
  <dc:subject/>
  <dc:title>O istorie a comunismului din Romania</dc:title>
</cp:coreProperties>
</file>