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481-1A16-4A78-A645-5CC5EAD9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495-271A-48D9-A41D-42F7B7A7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F4D-6345-46FF-988C-7CBE03F5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4DE-55B8-4C76-B829-0DBAED6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2EDB-FD85-4D74-9EBB-1DB1B98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9BA5-DD09-4D09-B961-5200266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257-85E6-40DC-820C-4377017F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D1A7-0B18-497C-A9A2-7B9E052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6D5-AA67-44DA-8D4B-4981808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139-E90B-4B01-9344-8EF4E588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058-DD53-4FFD-BB93-8BD5010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5D5-FBCD-41DB-8A62-694D2AD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C9B3-E98F-4736-80CC-D077187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1578-8273-44DB-9132-B4D3485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5A26-660E-4F12-B478-926D711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5B0-602D-4E76-A231-EEBC56E3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723D-CC76-400F-8707-8FCAF500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B1E-FDBE-47C1-980B-CFAC506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F46-9CF1-4967-B44E-1B95A5E5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FE0-3E9A-45C3-9525-6A512BE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143-8991-48EE-B567-8801C11A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53C-5F68-450E-A1FB-5A188B0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8A5-B4FF-4E40-BC2F-F55B5D8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8B9-19E0-4459-8CE2-E18F465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24D-4E23-4D32-90A2-E7019C6999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CA9E-266A-4AD5-95FE-E617F8E6FC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Garamond"/>
              </a:rPr>
              <a:t>O istorie a comunismului din Romania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Sistemul penitenci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48-1965- peste 130 de unitati de detenti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itenciar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Jilava, Rahova, Sighet (elite politice si religioase), Gherla, Aiud (“Vietasi”), Mislea (femei), Pitesti (reeducare studenti), Codlea, Brasov, Suceava, Timisoara (centre de exterminare) Canalul Dunare- Marea Neagra si Balta Brailei (colonii de munca), Baia Sprie si Cavnic (mine de plumb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94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Monopolul ideologic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 perioade de evolutie ideologica distinc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stalinizarea (mijlocul anilor ’5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“dezghetul ideologic” ( anii ’50-’6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perioada national comunismului si a tendintelor de restalinizare ideological (anii ’70-’8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Mijloace folosite pentru asigurarea monopolului ideologic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crierea istoriei din perspective prezentului comu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itizarea invatamantului dupa 194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zatiile de masa – PCR, FDUS, “soimii patriei, “pionierii”, UTC, UASCR, UGSR; tinta finala =controlul constiintelor si formarea “omului nou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itizarea culturii si art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ss media aserv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ul asupra Bisericii ortodox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deologia in “Epoca Ceausescu”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gresul IX 196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-primele te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68-distantarea de interventia din Cehoslovacia si de politica Moscovei-simpatie nationala si internationala, degenerarea nationalista si aparitia comunismului nationalist (arta, cultura, economie, politica exte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ltul personalitati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 incepe dupa 1971 (vizitele in China si Core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Economia si relatiile international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licarea modelului sovietic: Desfiintarea proprietatii private si inlocuirea ei cu cea de stat, “a intregului popor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ificarea, anuala apoi cinci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unie 1948 Nationaliz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mul cotelor obligator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49-1962 Colectivizarea agricultur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izarea finalizata cu colapsul din anii ‘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banizarea si sitematizarea-Bucuresti, s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vromuri”-1945-195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949 Romania devina membra CA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ii ‘70 contractarea de credite valutare externe-achitate integral dupa 198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Viata privata si reusita social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alcata violent si flagrant de catre regimul comunis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izarea caselor, viata la bloc, ratiile alimentare, politica de natali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nuria creaza alternative: “relatii” la alimentara, librarie, alte magazine, micul trafic, furtul din intreprinder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mboluri si insemne ale reusite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“hainele din Occident”, bunuri de lux (sapun, tigari, cafea, bauturi), masina, apartament (doar 1!!), cart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Politica extern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impul regimului GH. Gheorghiu Dej orientate exclusive catre Moscova si “lagarul socialist” (CAER (refuza aplicarea Planului Valev din 1964), Pactul de la Varsovia (fara 1968)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impul lui NC-orientare larga la inceput: RFG, SUA (Clauza), Israel, Occident; dupa 1980 restrangere spre Africa si Liga Araba, apoi izola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atrieri contra valuta-evrei si 1,5 miliarde pentru etnicii germa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Rezistenta si disidenta in timpul regimului communis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zistenta armata 1944-196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4-1947-Tinerimea Libera, Haiducii lui Avram Iancu-Divizia Sumanelor Negre, etc-distruse de sovietici si comuni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948-1957/1958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covina-grupuri conduse de Gavril Vatamaniuc si Vasile   Motresc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tii. Apuseni-grupuri conduse de mr. Nicolae Dabija si Theodor Susm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tii. Fagaras-grupuri conduse de lt.col. Gheorghe Arsenescu, lt. Toma Arnautoiu, Ion Gavrila Ogor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upurile au fost ajutate de sustinatori din sate; toti au fost urmariti, omorati sau prinsi si inchisi de catre Militie, Securitate si o retea de informat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carile studentesti din 1956-Bucuresti, Timisoara, Cluj-fara sprijin pop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Ideologia comunista a fost statuata de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493720"/>
            <a:ext cx="821844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Karl Marx si Friedrich Engels in sec. X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. I Lenin si I.V. Stalin s-au folost de ideologie pentru a impune cu forta si a mentine la putere dictatura proletariatului, de fapt a PCUS. ( Au instaurat teroarea si au creat CEKA pentru a putea guve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sidenta (anii ’70-’8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77 Miscarea Paul G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ste ale oamenilor de cultura: Doina Cornea, Mihai Botez, Vlad Georgescu, pr. Ctin. Calciu Dumitreasa, Dorin Tudoran, Radu Filipescu, Gabriel Andreescu, Mircea Dinescu, Gh. Ursu, grupul de la Europa Libe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ivistii de partid nemultumiti de dictatura ceausista-“Scrisoarea celor 6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carile muncitore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7 minerii din Valea jiul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noiembrie 1987 Brasov-“Steagul Rosu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Anul 1989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85 in URSS Gorbaciov cu politica de “glasnost” si “perestroika”- declanseaza prabusirea comunismului in toata Europa de 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mania a fost ultima tara in care a pornit miscarea anticomunista: Timisoara (16 dec.) apoi Bucuresti (21-22 de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zultatul final =1104 morti si preluarea puterii de catre “esalonul 2 din conducerea PCR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stituirea PCR si evolutia sa pina la 23 august 1944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20-un grup de socialisti au discutat la Moscova conditiile de afiliere la Internationala a III-a Comunista-acceptarea, sub presiune sovietica a celor 21 de conditii care transformau partidul roman intr-o sectie a aceste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 mai 1921 congresul de constituire a PCR; 1924 a fost scos in afara legi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perioada interbelica a fost o organizatie periferica, fara impact social si politic (4-5000 membri; inainte de 23 august sub 1000 membr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Preluarea puterii (1944-1947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3august 1944-rusii au conditionat recunoasterea evenimentelor de participarea PC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2 septembrie 1944, Moscova semnarea Conventiei de armistitiu cu Aliatii (3/pag2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upatia militara sovietica in Romania pina in 195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 martie 1945 guvernul Dr. Petru Groz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 noiembrie 1946-alegeri parlament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 decembrie 1947 fortarea Regelui Mihai sa abdice (Visinski si P. Groz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PMR/PCR (1948-1989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9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erea partidului: 1948-1965 Gh. Gheorghiu De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5-1989 N. Ceaus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rea pluralismului politic  (vara 1947 PNL si PNT interz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2 si 1965 Constitutii care au consfintit sistemul politic cu partid unic (RPR/RS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48-1958 deplina tutela sovi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atia din aprilie 1964 a statuat independenta PMR fata de Moscova fara abandonarea modelului stalin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a 1965 intervine o relativa liberalizare econo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1-vizita in China si Coreea; incepe ascensiunea Elenei Ceausescu, si cultul personalitat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organizarea structurilor de organizare si conduc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ctueaza/Creste numarul de memb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pte pentru putere la nivelul conducerii de partid; Stefan Foris, L. Patrascanu, Ana Pauker, V. Luca si Teohari Georgescu (1950-1952), C. Parvulescu, Ion Iliescu, Silviu Brucan (1980-1989) eliminati violent sau administrative dupa ce ocupasera functii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nstitutiile statului-“Partidul stat”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-un fel de parlament, for legislative sub controlul PC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zidiul MAN detinea de fapt intreaga put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edintele Republicii (1974)=N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iliul de Ministri=guvernul comun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stitia era subordonata intereselor PC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Institutiile represiv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8-Securitatea (folosea tehnice violente: interventia armata in munti si pe parcursul colectivizarii, organizare de atentate, si pasnice: retea de informatory, interceptarea convorbirilor telefonice si a corespondentei, instalare de microfoan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9 Trupele de Securi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49-Milit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uratura si instantele milit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rectia generala a penitenciarel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Distrugerea societatii civile si represiunea polit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nihilarea opozitiei politi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au fost interzise manifestatiile publice si desfiintate cluburile politice, a fost introdusa cenzura, propaganda de presa, epurarea adversarilor incomozi, inscenari si regizari (8 noiembrie 1945), arestari ai mebrilor partidelor politice (III-IX 1945 peste 1000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sfiintarea si interzicerea partidelor istori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PNT-Tamadau, apoi desfiintarea partidului in iulie 1947, arestarea si incarcerarea liderilor; PNL- dezintegrare treptate apoi  autodizolvare in VIII 1947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sfiintarea altor forme de asocier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peste 1000 in 194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igoana impotriva cultelo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-infiltrare cu informatori, suprimare-Martorii lui Iehova, desfiintarea Bisericii Greco-Catolice-1 decembrie 1948, controlul asupra Bisericii Ortodox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Universul concentration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0.000-2.000.000 victime (detinuti in inchisori, lagare, deportati/dislocati, internarea in colonii si unitati de munca, domiciliu obligatoriu )=”dusmani ai poporului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igurarea bazei legislative-Codul Penal, abrogarea principiului neretroactivitatii legilor, “articolul pretext” 209 din C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64-majoritatea detinutilor politici au fost amnistia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6:19Z</dcterms:created>
  <dc:creator>user</dc:creator>
  <dc:description/>
  <dc:language>en-US</dc:language>
  <cp:lastModifiedBy>FLORINA</cp:lastModifiedBy>
  <dcterms:modified xsi:type="dcterms:W3CDTF">2008-11-13T11:21:56Z</dcterms:modified>
  <cp:revision>13</cp:revision>
  <dc:subject/>
  <dc:title>O istorie a comunismului din Romania</dc:title>
</cp:coreProperties>
</file>